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wmf" ContentType="image/x-wmf"/>
  <Override PartName="/ppt/media/image4.gif" ContentType="image/gif"/>
  <Override PartName="/ppt/media/image6.jpeg" ContentType="image/jpeg"/>
  <Override PartName="/ppt/media/image5.gif" ContentType="image/gif"/>
  <Override PartName="/ppt/media/image9.png" ContentType="image/png"/>
  <Override PartName="/ppt/media/image7.gif" ContentType="image/gif"/>
  <Override PartName="/ppt/media/image8.gif" ContentType="image/gif"/>
  <Override PartName="/ppt/media/image10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CE8B-A936-433D-B473-D15CAE2B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F95-B1DE-4971-AE01-0C3B3588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159C-314B-4559-9227-5298E957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C3F-43F6-4462-B120-63D74662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4CB-0B90-4265-88EA-3767BFE5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288-957F-4086-8CD3-77BE826D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8884-4C49-43B1-A5A7-7924CFA0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21C8-EC34-4982-8781-A9D38D52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30A0-0930-4116-81DA-3E15A0A4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CFA-5EB0-402E-B8C3-9417AEE9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109F-3C59-4DA3-8BA7-E75AB064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901-9124-4C45-818C-607E6ECA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88E0-5AA9-4688-A8FC-1AE51247CB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96800" y="836280"/>
            <a:ext cx="58784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proceso de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mo ayuda en la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olución de conflic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59280" y="32464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: Jaime G. Sánchez Carrillo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6021360"/>
            <a:ext cx="35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Asesor académico en la Unidad UPN 099 DF Pon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4221000"/>
            <a:ext cx="4572000" cy="92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5DB5-2A89-43AC-BDB7-68AE7C9F3C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200" y="333360"/>
            <a:ext cx="8137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 cambio: capacidad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de transformación y adapta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un período de intensas transiciones, la comprensión del cambio y la potencialización de la capacidad para asimilar los cambios se convierten en una necesidad inelud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ejemplo 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la telefonía fija a la celular y/o satel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7800" y="2104920"/>
            <a:ext cx="3057480" cy="310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0FC-AA8B-41A2-8990-7016F4D2B4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67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gunda ruptura dig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ptura ocasionada por 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hazo al cam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titud en la asimilación de l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evas Tecnologías de la comunic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 de quienes toman las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ex, Fax, Pager, MP2, GSM. t. Satelital, fibra óptica, cable submarino, correo electrónico, fotografía- digital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67280" y="2371680"/>
            <a:ext cx="3097440" cy="21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818F-2D67-490B-BCD8-AF789C1A58D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novación en la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MUNICACIÓN.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rabajo a distancia: comunicación inalámb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5280" y="1268280"/>
            <a:ext cx="496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ransacciones mercantiles virt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pras / Ventas/ a dista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trucciones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codificadas y encapsulada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compra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ransacciones financieras por Internet b2b o b2c o c2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Aparatos domésticos inteligente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, operados a distancia (Hornos, microondas y refrigerador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bajo en casa, comercios o restaura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comunicación inalámbrica en aeropuertos, centros de convenciones, restaurantes, hotel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**http%3A%2F%2Fwww.elobservadoreconomico.com%2Farchivo%2F101%2Fcompras%2520en%2520linea%25202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3622680" cy="3238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338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**http%3A%2F%2Fwww.cadritech.com.br%2Fassets%2Fimages%2Fcarrinho-compras" descr=""/>
          <p:cNvPicPr/>
          <p:nvPr/>
        </p:nvPicPr>
        <p:blipFill>
          <a:blip r:embed="rId2"/>
          <a:stretch/>
        </p:blipFill>
        <p:spPr>
          <a:xfrm>
            <a:off x="1187280" y="5013360"/>
            <a:ext cx="2481480" cy="1557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92360" y="404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B6B-1ABF-40B7-83B8-1079947A91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231480"/>
            <a:ext cx="8497800" cy="62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 día un sabio preguntó a sus discípulos lo siguient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¿Por qué la gente se grita cuando están enojados?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s alumnos pensaron y meditaron  por un momento; y respondieron…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Porque perdemos la calma - dijo uno - por eso gritamos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Pero ¿por qué gritar cuando la otra persona está a tu lado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guntó una vez más ¿No es posible hablarle en voz baja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¿Por qué gritas a una persona cuando estás enojado y esta cerca de ti……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s hombres dieron algunas otras respuestas pero ninguna de ellas satisfacía al maestro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almente él explicó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-Cuando dos personas están enojadas,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us corazones se aleja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cho: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a cubrir esa distancia deben gritar, para poder escucha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entras más enojados estén, más fuerte tendrán que gritar para escucharse uno a ot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través de esa gran distancia imaginaria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200"/>
            </a:br>
            <a:br>
              <a:rPr sz="8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uego volvió y preguntó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- ¿Qué suced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uando dos personas se enamora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los no se gritan sino que s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blan suavemen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r qué?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us corazones están muy cerc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tancia entre ellos es muy pequeña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400"/>
            </a:br>
            <a:br>
              <a:rPr sz="8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inuó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- Cuando se 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enamora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ás aún, qué sucede?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 hablan, sólo susurra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 s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uelven aún más cerca en su amor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inalmente no necesitan siquiera susurrar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ólo se mira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y eso es todo. Así es; que cerca están dos personas cuando se aman. </a:t>
            </a:r>
            <a:br>
              <a:rPr sz="1400"/>
            </a:br>
            <a:br>
              <a:rPr sz="8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uego el sabio concluyó: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uando discutan no dejen que sus corazones se alej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 digan palabras que los distancien más, llegará un día en que esa distancia sea t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que no encontrarán más el camino de regreso.</a:t>
            </a:r>
            <a:br>
              <a:rPr sz="14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1F3B-197A-4596-8F1B-8F614F6C0F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7129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nclusiones 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064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a habilidad en la comunicación es la clave del éxito en la vida, para la plena realización del Ser Human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 existiera un proceso óptimo de comunicación, entre seres y/o naciones, no habría: guerras, conflictos, pleitos, fricciones, ofensas, malentendidos, resentimientos, enoj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 podrían minimizar las rupturas ideológicas, sociales, políticas y económica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render a comunicarse  permite apreciar un mejor mundo y  todo lo circundante; así, la aurora de la vida empezará a parecer más brillante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n una existencia más llevadera, con el trabajo cotidiano mas fácil de ejecutar, con una familia más unida y feliz, et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mbios trascendentales suelen ocurrir en cuanto se cumple idealmente el fenómeno extraordinario de la Comunicación.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¡Es urgente intentar que las cosas funcionen mucho mejo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24360" y="5300640"/>
          <a:ext cx="208764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5300640"/>
                    <a:ext cx="208764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04D-7A68-4DBF-BC0F-B5C893A89B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digma de la comunicació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municación se entiende como el factor básico en todos los procesos biológicos, humanos, sistemas mercantiles, tecnológicos e industrializ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evolución de la vida se mueve gracias a la expansión del proceso comunic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3672000" cy="327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B3D-15B5-44FD-8B45-090AAA95094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24920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ción y alcance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unicación es el intercambio de ideas, objetos, sentimientos entre dos o más   personas, para alcanzar una comprensión, logro  o f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ace llegar ideas, objetos, sentimientos, datos o información, entre dos o más terminales con un propósito definid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 la base de cualquier relación entre seres humanos, entidades, terminales y dispositivos de información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omunicarse con los demá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es lograr un resultado deseado o no, entre personas, familia, sociedad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1AD-5CCE-4841-9238-8509DE1121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26920" y="188640"/>
            <a:ext cx="6661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os fundamentales de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roceso comunicativo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unicación en una v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17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-Punto causa o pun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ri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89040" y="2384280"/>
          <a:ext cx="1432080" cy="31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9040" y="2384280"/>
                    <a:ext cx="1432080" cy="31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6354720" y="2540160"/>
          <a:ext cx="1408320" cy="297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4720" y="2540160"/>
                    <a:ext cx="140832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5076720" y="126828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- Pun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fect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 pun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773360"/>
            <a:ext cx="151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.- Tener un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a, sentimiento u obje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08720" y="2421000"/>
            <a:ext cx="2016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87640" y="2997360"/>
            <a:ext cx="432000" cy="2160360"/>
          </a:xfrm>
          <a:custGeom>
            <a:avLst/>
            <a:gdLst>
              <a:gd name="textAreaLeft" fmla="*/ 127080 w 432000"/>
              <a:gd name="textAreaRight" fmla="*/ 432360 w 432000"/>
              <a:gd name="textAreaTop" fmla="*/ 90000 h 2160360"/>
              <a:gd name="textAreaBottom" fmla="*/ 207036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011280" y="2637000"/>
            <a:ext cx="360360" cy="2592360"/>
          </a:xfrm>
          <a:custGeom>
            <a:avLst/>
            <a:gdLst>
              <a:gd name="textAreaLeft" fmla="*/ 105480 w 360360"/>
              <a:gd name="textAreaRight" fmla="*/ 360360 w 360360"/>
              <a:gd name="textAreaTop" fmla="*/ 108000 h 2592360"/>
              <a:gd name="textAreaBottom" fmla="*/ 248436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54400" y="5356080"/>
            <a:ext cx="171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7640" y="191628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7.- seleccionar un canal [medio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907920"/>
            <a:ext cx="259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3672000"/>
            <a:ext cx="2541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o verbales [Expresiones faciales, lenguaje corporal y tono de voz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7640" y="2492280"/>
            <a:ext cx="3025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8.- Código decodificador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     [lenguaje comprensibl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2925720"/>
            <a:ext cx="3024000" cy="1079640"/>
          </a:xfrm>
          <a:prstGeom prst="rightArrow">
            <a:avLst>
              <a:gd name="adj1" fmla="val 50000"/>
              <a:gd name="adj2" fmla="val 70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94000" y="3141720"/>
            <a:ext cx="30067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9.- Contenido del mens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[Verbal y/o  a través de símbolos y/o palabras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0560" y="4437000"/>
            <a:ext cx="2881440" cy="792360"/>
          </a:xfrm>
          <a:prstGeom prst="leftArrow">
            <a:avLst>
              <a:gd name="adj1" fmla="val 50000"/>
              <a:gd name="adj2" fmla="val 909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use de recibo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Retroalime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16880" y="1835280"/>
            <a:ext cx="2392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0.- Duplicar l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a, sentimiento u objeto [interpretació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6000" y="3860640"/>
            <a:ext cx="194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1.- Emitir acus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 recibo y/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troalimen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3573360"/>
            <a:ext cx="15127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5.-Interés e inten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por hac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llegar e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mensaj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5084640"/>
            <a:ext cx="194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6.-Captar la aten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 inter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l recep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16360" y="119700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292428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.-Localizar 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nto 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00720" y="5445000"/>
            <a:ext cx="25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.- Agradecer y cerrar el ciclo de comun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69F4-0AD0-489D-82F2-0FDB157680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280" y="189000"/>
            <a:ext cx="8001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Triángulo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A-R-C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= Comprensión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o consecuencia de aplicar la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Fórmula de la Comunicació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n la vida diaria, ocurre que la habilidad para comunicarse se incrementa, y con ello, su nivel de 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Realidad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Afinidad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 otras person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 principio es: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Una persona está bien o mal, en la medida en que puede comunicarse con los demás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s componentes del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riángulo 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A - R - 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s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finid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alida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la medida en que se tiene mejor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 una persona o con su medio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biente, las cosas al alrededor mejoran, además de que serán má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 mayor será su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finid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grado) y su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prensió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alida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afinidad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ambién  intensificarán, creciendo e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iángulo de la compren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riamente, en la medida que disminuye la comunicación, decrecen los elementos y se reduce el tamaño del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riángulo comprensión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2924280"/>
            <a:ext cx="1584360" cy="504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04000" y="2565360"/>
            <a:ext cx="64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43480" y="5429160"/>
            <a:ext cx="344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27813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5520" y="285264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R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94DE-DEC4-493A-8FB0-A2415A16BBE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44280"/>
            <a:ext cx="80010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ipos de Comunicación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NO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252360" y="764640"/>
            <a:ext cx="79214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presentaciones sistematizada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Símbolos, signos, colores, fotografía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ctividades culturales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información impresa:  Logos, folletos, anuncios, cartel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teraciones somáticas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ambios en el cuerpo como dilatación de pupilas, respiración acelerada,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ación , palidez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resiones faciales: guiños, tics, levantar o fruncir cejas, apretar los dient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ímica: uso consciente e intencional de rictus y del cuer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osturas que evidencian estados de ánimo: emociones, sentimiento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vimiento corporal inconscient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abeza, tronco, extremidades o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erpo ente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aralenguaj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uso de onomatopeyas (imitación de sonidos), gruñido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idos producidos por objeto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oxémic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uso de l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istancia espa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tilización de los sentido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registro visual amplío o detallad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inción de aromas y olores; sensibilidad epidérmica: palpar, toca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ariciar; percibir sabores y degustar; advertir sonidos, ru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ariencia personal: vestimenta, adornos,  actitudes, posturas corporales, adema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es un extraordinario y  fehaciente  medio de expre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emociones, actitudes y/o sentimientos, que suele contradecir la oratoria del exposi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227640" y="2133720"/>
          <a:ext cx="139248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2133720"/>
                    <a:ext cx="13924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5A9-AAFA-4362-A1D5-5E17A2AF46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El drama del desarrol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6048360" cy="46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spués de cada salto importante en la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ecnología de la Comunicación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hay grupos humanos que se bifurcan del tronco común del que precedían y empiezan a desarrollar una civilización diferent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Web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B2B o C2C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atelital e inalámbrica, fibra óptica, et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Funciones de la Publicidad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ua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rd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racterísticas de la Publicid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pertar el interés y/o la neces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entación pública, promoción de mar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etración; campaña de infor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resión amplificada; incrementar el consu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erson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legar al mercado me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084720" y="2060640"/>
            <a:ext cx="2808360" cy="282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73A-0661-4277-ABC5-D3CC46EF6E1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ngeniería Institu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560" y="2401920"/>
            <a:ext cx="475308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avanzada trepidante de 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ecnología de la comunica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a conducido hacia l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iz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consecuentemente, ha generado profundos cambios humanos, culturales, sociales, políticos y económico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888000" cy="27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B29-6F5A-4A13-869B-41FB2FA1F84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4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Internet  e  Intrane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Hoy en día conseguir información e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000000"/>
                </a:solidFill>
                <a:latin typeface="Arial"/>
              </a:rPr>
              <a:t>Ráp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000000"/>
                </a:solidFill>
                <a:latin typeface="Arial"/>
              </a:rPr>
              <a:t>Bar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000000"/>
                </a:solidFill>
                <a:latin typeface="Arial"/>
              </a:rPr>
              <a:t>Con CA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22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**http%3A%2F%2Fwww.hedrosystem.com.ar%2Fimages%2Fpaginas" descr=""/>
          <p:cNvPicPr/>
          <p:nvPr/>
        </p:nvPicPr>
        <p:blipFill>
          <a:blip r:embed="rId1"/>
          <a:stretch/>
        </p:blipFill>
        <p:spPr>
          <a:xfrm>
            <a:off x="4778280" y="1600200"/>
            <a:ext cx="411480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1EA-AF27-4842-8D8D-6D52AD0BBCA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7:45:09Z</dcterms:created>
  <dc:creator> Jaime G.Sanchez C.</dc:creator>
  <dc:description/>
  <dc:language>en-US</dc:language>
  <cp:lastModifiedBy>universidad</cp:lastModifiedBy>
  <dcterms:modified xsi:type="dcterms:W3CDTF">2009-08-19T14:56:18Z</dcterms:modified>
  <cp:revision>105</cp:revision>
  <dc:subject/>
  <dc:title>                       U.N.A.M.  Facultad de Contaduria y Administracion </dc:title>
</cp:coreProperties>
</file>